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363-C2ED-4532-A857-FAA4DA4B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12D-10B1-4ADC-9F14-CACE9E51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F69-5F4C-4EFC-B705-D1936B42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C8D-1762-4DB4-96CD-8F802FD3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869-7ADE-499D-95CB-76CFC5BD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2E0-54C5-4C08-B7C9-D05EE7EB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8F3-075E-43FC-B0D4-8C8E12D6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CA1-A337-4A7C-99EB-619677DF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2DE-72CE-4DBD-9081-6E2268F8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591-90F1-45C0-AF39-9B03409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3B8-E2A7-46DF-BDE2-227E5279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0FF-1775-4F81-AEBB-077A367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2686-683C-4CA3-9CAF-332D664C2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dage.com/century/campaigns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vertising Age - The Advertising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img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http://agency.travelwisconsin.com/Programs/ppt_adplan/img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img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img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http://agency.travelwisconsin.com/Programs/ppt_adplan/img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img020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img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img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http://agency.travelwisconsin.com/Programs/ppt_adplan/img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http://agency.travelwisconsin.com/Programs/ppt_adplan/img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agency.travelwisconsin.com/Programs/ppt_adplan/img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agency.travelwisconsin.com/Programs/ppt_adplan/img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http://agency.travelwisconsin.com/Programs/ppt_adplan/img0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http://agency.travelwisconsin.com/Programs/ppt_adplan/img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ttp://agency.travelwisconsin.com/Programs/ppt_adplan/img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http://agency.travelwisconsin.com/Programs/ppt_adplan/img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ttp://agency.travelwisconsin.com/Programs/ppt_adplan/img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ttp://agency.travelwisconsin.com/Programs/ppt_adplan/img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img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ttp://agency.travelwisconsin.com/Programs/ppt_adplan/img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5:47:57Z</dcterms:created>
  <dc:creator>pv</dc:creator>
  <dc:description/>
  <dc:language>en-US</dc:language>
  <cp:lastModifiedBy>Administrator</cp:lastModifiedBy>
  <dcterms:modified xsi:type="dcterms:W3CDTF">2013-05-22T02:43:34Z</dcterms:modified>
  <cp:revision>3</cp:revision>
  <dc:subject/>
  <dc:title>PowerPoint Presentation</dc:title>
</cp:coreProperties>
</file>